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AEDE-820B-4A83-A62B-56F0863E4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2597-1BF1-4584-A699-50D7C932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1993-3802-49A0-B2CC-1E0C568D1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E2C2-F588-4728-892F-ACDE2740C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E98B-0B3E-4432-A86C-6946F135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DE9D-0EF4-4A32-93DB-EC51EC2B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2AC6-ADBB-46A3-95DA-45CE8460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5A73-9264-4C3E-8B38-4C1A1959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4430-A1CF-451A-9BD8-F2150E9B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7F3B-F243-4AA3-BA3B-16F254FD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0542-2255-4732-A279-B5CC2C1A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D480-8E25-44F7-8CD6-95AE8EDC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A4EB-7FDE-4DC5-ACD7-A248F511B56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التقديمي على الحاس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66880" y="3429000"/>
            <a:ext cx="3810240" cy="2717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477120"/>
            <a:ext cx="9144000" cy="75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التقديمي على اللوحة</a:t>
            </a:r>
            <a:br>
              <a:rPr sz="1800"/>
            </a:br>
            <a:r>
              <a:rPr b="0" lang="ar-AE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دول الأعما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ar-A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جزء الأو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فق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اعتذا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بع الأو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بع الثان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بع الثال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بع الأخي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داد التقرير النهائ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477120"/>
            <a:ext cx="9144000" cy="75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242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التقديمي على اللوحة سيبدأ في الساعة </a:t>
            </a:r>
            <a:r>
              <a:rPr b="0" lang="ar-A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:00</a:t>
            </a:r>
            <a:r>
              <a:rPr b="0" lang="ar-A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وسيتم التصريح بالمكسب / الخسارة بعد ذل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يتم تقديم المرطبات ابتداءً من الساعة </a:t>
            </a:r>
            <a:r>
              <a:rPr b="0" lang="ar-A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:00</a:t>
            </a:r>
            <a:r>
              <a:rPr b="0" lang="ar-A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سيشمل ذلك المشروبات الساخنة و الباردة و البوفي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041720" cy="5007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طب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التقديمي على الفيدي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360" y="1981080"/>
            <a:ext cx="7467480" cy="4114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6477120"/>
            <a:ext cx="9144000" cy="75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بيعات </a:t>
            </a:r>
            <a:r>
              <a:rPr b="0" lang="ar-AE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0" y="6477120"/>
            <a:ext cx="9144000" cy="75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كراً على الانتبا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477120"/>
            <a:ext cx="9144000" cy="75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تبه للمدرس بينما يشرح العرض التقديمي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15:22:58Z</dcterms:created>
  <dc:creator>Roger</dc:creator>
  <dc:description/>
  <dc:language>en-US</dc:language>
  <cp:lastModifiedBy>12:20</cp:lastModifiedBy>
  <dcterms:modified xsi:type="dcterms:W3CDTF">2004-09-10T08:38:59Z</dcterms:modified>
  <cp:revision>39</cp:revision>
  <dc:subject/>
  <dc:title>Computer Present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NCCWork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